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53D-1472-4587-B458-FE4652A3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131-1D42-4CDD-B0C5-8DA77668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62D-2B8F-4790-9EC3-0235E8FF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959-A0BB-4265-86ED-1B846DE6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620D-7986-4D09-A87D-07305FE1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B074-F3AC-4AE5-816F-B97B7241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089D-55E0-4197-BEDD-46D6AF39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2B03-4C2F-4C2D-BF05-8E5F5C33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5E54-3545-4DB2-A51A-65C70E55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6A2C-9F79-479E-92FE-25DF838C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30CB-FFE4-45E1-882A-2B7F110F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29F-7BBA-4C9E-B7D0-3FE5BDE4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1821-817F-4ED3-AE7E-A977AD2B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BA4C-9D67-4184-A033-413C864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7665-FE38-41A6-9AD6-C6CFC849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2A26-70D7-4E8F-BCD9-FDA44B1B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2A74-6C43-4AB2-80DC-D8512A44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02B-3445-4346-A611-44A43A07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A1D-12E4-4819-B474-62C2EFF4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3B3-5C22-4918-8D51-AB4A1D60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0B8-16E5-4BD2-A8A0-05053A26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481-A084-4970-BFF5-1EB157C8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248-4EB9-4CDE-8759-D6F371C4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30C-58CA-4F93-B8ED-3CA64D6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141D-E4A2-46B7-9CCA-FB43493C63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332A-7733-4270-B070-874DA5A028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20"/>
          <p:cNvCxnSpPr>
            <a:stCxn id="82" idx="0"/>
            <a:endCxn id="83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Straight Arrow Connector 22"/>
          <p:cNvCxnSpPr>
            <a:stCxn id="83" idx="3"/>
            <a:endCxn id="85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Straight Arrow Connector 24"/>
          <p:cNvCxnSpPr>
            <a:stCxn id="83" idx="2"/>
            <a:endCxn id="84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Straight Arrow Connector 28"/>
          <p:cNvCxnSpPr>
            <a:stCxn id="84" idx="3"/>
            <a:endCxn id="86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30"/>
          <p:cNvCxnSpPr>
            <a:stCxn id="86" idx="3"/>
            <a:endCxn id="88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32"/>
          <p:cNvCxnSpPr>
            <a:stCxn id="84" idx="3"/>
            <a:endCxn id="87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34"/>
          <p:cNvCxnSpPr>
            <a:stCxn id="87" idx="2"/>
            <a:endCxn id="89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36"/>
          <p:cNvCxnSpPr>
            <a:stCxn id="84" idx="3"/>
            <a:endCxn id="90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38"/>
          <p:cNvCxnSpPr>
            <a:stCxn id="84" idx="2"/>
            <a:endCxn id="91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40"/>
          <p:cNvCxnSpPr>
            <a:stCxn id="91" idx="2"/>
            <a:endCxn id="92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42"/>
          <p:cNvCxnSpPr>
            <a:stCxn id="92" idx="1"/>
            <a:endCxn id="93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44"/>
          <p:cNvCxnSpPr>
            <a:stCxn id="93" idx="1"/>
            <a:endCxn id="94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46"/>
          <p:cNvCxnSpPr>
            <a:stCxn id="95" idx="3"/>
            <a:endCxn id="96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48"/>
          <p:cNvCxnSpPr>
            <a:stCxn id="94" idx="2"/>
            <a:endCxn id="95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50"/>
          <p:cNvCxnSpPr>
            <a:stCxn id="94" idx="0"/>
            <a:endCxn id="97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52"/>
          <p:cNvCxnSpPr>
            <a:stCxn id="97" idx="0"/>
            <a:endCxn id="82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49"/>
          <p:cNvCxnSpPr>
            <a:stCxn id="116" idx="1"/>
            <a:endCxn id="91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Frame 37"/>
          <p:cNvSpPr/>
          <p:nvPr/>
        </p:nvSpPr>
        <p:spPr>
          <a:xfrm>
            <a:off x="5105520" y="3962520"/>
            <a:ext cx="2361960" cy="1143000"/>
          </a:xfrm>
          <a:custGeom>
            <a:avLst/>
            <a:gdLst>
              <a:gd name="textAreaLeft" fmla="*/ 142560 w 2361960"/>
              <a:gd name="textAreaRight" fmla="*/ 2219400 w 2361960"/>
              <a:gd name="textAreaTop" fmla="*/ 142920 h 1143000"/>
              <a:gd name="textAreaBottom" fmla="*/ 1000440 h 1143000"/>
            </a:gdLst>
            <a:ahLst/>
            <a:rect l="textAreaLeft" t="textAreaTop" r="textAreaRight" b="textAreaBottom"/>
            <a:pathLst>
              <a:path w="2362200" h="1143000">
                <a:moveTo>
                  <a:pt x="0" y="0"/>
                </a:moveTo>
                <a:lnTo>
                  <a:pt x="2362200" y="0"/>
                </a:lnTo>
                <a:lnTo>
                  <a:pt x="2362200" y="1143000"/>
                </a:lnTo>
                <a:lnTo>
                  <a:pt x="0" y="1143000"/>
                </a:lnTo>
                <a:close/>
                <a:moveTo>
                  <a:pt x="142875" y="142875"/>
                </a:moveTo>
                <a:lnTo>
                  <a:pt x="142875" y="1000125"/>
                </a:lnTo>
                <a:lnTo>
                  <a:pt x="2219325" y="1000125"/>
                </a:lnTo>
                <a:lnTo>
                  <a:pt x="2219325" y="1428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a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3580920"/>
            <a:ext cx="3352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the correct form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9" descr="MCj02404790000[1]"/>
          <p:cNvPicPr/>
          <p:nvPr/>
        </p:nvPicPr>
        <p:blipFill>
          <a:blip r:embed="rId1"/>
          <a:stretch/>
        </p:blipFill>
        <p:spPr>
          <a:xfrm>
            <a:off x="7620120" y="228600"/>
            <a:ext cx="1290600" cy="18129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495680" y="17524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35053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9880" y="3657600"/>
            <a:ext cx="4267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I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D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an explanation of your reasonin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levels of 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657600" y="22096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asonable prediction of what might happen based on observations and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04920" y="2209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(def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3505320" y="457200"/>
            <a:ext cx="5333760" cy="74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pe of coffee cup chang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al cups will have a higher temperature in 5 minutes than paper c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aper cup is th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If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type of coffee cup changes from metal to pap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then metal cup will have a higher temperature in 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because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the paper cup is th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228600" y="457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MCFD00042_0000[1]"/>
          <p:cNvPicPr/>
          <p:nvPr/>
        </p:nvPicPr>
        <p:blipFill>
          <a:blip r:embed="rId1"/>
          <a:stretch/>
        </p:blipFill>
        <p:spPr>
          <a:xfrm>
            <a:off x="228600" y="1295280"/>
            <a:ext cx="1136520" cy="174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4099350000[1]"/>
          <p:cNvPicPr/>
          <p:nvPr/>
        </p:nvPicPr>
        <p:blipFill>
          <a:blip r:embed="rId2"/>
          <a:stretch/>
        </p:blipFill>
        <p:spPr>
          <a:xfrm>
            <a:off x="1219320" y="4498920"/>
            <a:ext cx="141588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MCj02383890000[1]"/>
          <p:cNvPicPr/>
          <p:nvPr/>
        </p:nvPicPr>
        <p:blipFill>
          <a:blip r:embed="rId3"/>
          <a:stretch/>
        </p:blipFill>
        <p:spPr>
          <a:xfrm>
            <a:off x="1600200" y="2743200"/>
            <a:ext cx="1266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346680"/>
            <a:ext cx="9144000" cy="59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wrong with the following example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I put coffee into 2 cups, then metal cups will keep the coffee hotter than paper cups because metal retains hea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3 brands of basketballs are bounced from two meters, then the Reebok brand will bounce higher than Nike and Wal-mart b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different colors of light are used, then plants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yellow light will grow the fastest because the sun is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ye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eveloping a Great Hypothesis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ng th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62520" y="1600200"/>
            <a:ext cx="487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ed:  The results back up th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uted:  The results do not back up the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Documents and Settings\krose\Local Settings\Temporary Internet Files\Content.IE5\R1SUNYR0\MCj04238420000[1].wmf"/>
          <p:cNvPicPr/>
          <p:nvPr/>
        </p:nvPicPr>
        <p:blipFill>
          <a:blip r:embed="rId1"/>
          <a:stretch/>
        </p:blipFill>
        <p:spPr>
          <a:xfrm>
            <a:off x="7162920" y="2784600"/>
            <a:ext cx="990360" cy="1071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krose\Local Settings\Temporary Internet Files\Content.IE5\R1SUNYR0\MCj04238560000[1].wmf"/>
          <p:cNvPicPr/>
          <p:nvPr/>
        </p:nvPicPr>
        <p:blipFill>
          <a:blip r:embed="rId2"/>
          <a:stretch/>
        </p:blipFill>
        <p:spPr>
          <a:xfrm>
            <a:off x="7162920" y="4495680"/>
            <a:ext cx="1143000" cy="107964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8"/>
          <p:cNvSpPr/>
          <p:nvPr/>
        </p:nvSpPr>
        <p:spPr>
          <a:xfrm flipH="1">
            <a:off x="3886200" y="1525680"/>
            <a:ext cx="1440" cy="42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MSSN00870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MSSN00507A0000[1].wav" descr=""/>
          <p:cNvPicPr/>
          <p:nvPr/>
        </p:nvPicPr>
        <p:blipFill>
          <a:blip r:embed="rId4"/>
          <a:stretch/>
        </p:blipFill>
        <p:spPr>
          <a:xfrm>
            <a:off x="75438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13"/>
          <p:cNvSpPr/>
          <p:nvPr/>
        </p:nvSpPr>
        <p:spPr>
          <a:xfrm>
            <a:off x="0" y="57913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7560" y="594360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mmary:  A great hypothes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72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381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ce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cate if the following hypotheses are testable and properly worded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 = testab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PW = properly wor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T = not testable                        NPW = not properly wor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I give my plants fertilizer, then they will grow as big as my neighbor’s pl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I get lucky, then my plants will grow bigger, because people that are lucky usually have nice gard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y plants aren’t growing bigger because I don’t water them enoug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amount of fertilizer is increased, then plants with a lot of fertilizer will grow more than plants with no or some fertilizer because fertilizer gives plants more nutri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MCj01997070000[1]"/>
          <p:cNvPicPr/>
          <p:nvPr/>
        </p:nvPicPr>
        <p:blipFill>
          <a:blip r:embed="rId1"/>
          <a:stretch/>
        </p:blipFill>
        <p:spPr>
          <a:xfrm>
            <a:off x="7315200" y="457200"/>
            <a:ext cx="14763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02:52Z</dcterms:created>
  <dc:creator>Jean Kavanagh</dc:creator>
  <dc:description/>
  <dc:language>en-US</dc:language>
  <cp:lastModifiedBy>Jean Kavanagh</cp:lastModifiedBy>
  <dcterms:modified xsi:type="dcterms:W3CDTF">2009-09-15T17:35:52Z</dcterms:modified>
  <cp:revision>19</cp:revision>
  <dc:subject/>
  <dc:title>Writing a Hypothesis</dc:title>
</cp:coreProperties>
</file>